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04A9-D5EF-4B0D-9C15-CC7D8EF8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FD2-5976-470E-9251-186556C2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E43C-98E6-4C97-802B-D109B44F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ABEA-2C17-422D-A567-2F4A00F4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36FC-21C4-4DD8-A34D-D8E86965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6730-F910-4B9D-89E5-1BD965F0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4679-7B12-4959-8ADA-0D41BD2B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CDBA-D8E3-416E-BE8E-F47C90C4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8998-4654-4035-B6AA-69CDD43B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DAE8-8FA4-4003-8E72-C9C7062B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4EBA-D5B4-4D01-9099-B3157395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36D-034E-4A22-A295-3262246C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A905-CCB3-4B9B-9A3A-694404AF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E0CF-F373-4691-810C-6FBE44A6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CD68-D273-4529-B16C-84274D87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88A1-82A6-426B-AF04-6C56A6B8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7621-C9DC-4C3B-8257-E8EE3FA6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89AE-62CE-4E95-B932-A52ADC38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371-7522-49C5-84BE-66528688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7EC-A679-4198-A6CA-DB579902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38FA-734A-4F80-A3BD-92D2EC25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BCAF-8BEE-420D-8283-9B4E17E9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2C09-D3EA-4DE3-B903-6AF2FFEB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D32-2C08-414D-AA45-BA8DB804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CF0C-BB20-4034-8FEC-936F56C7ED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3860-79C9-4A60-BC42-336B7EA26F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6.xml"/><Relationship Id="rId3" Type="http://schemas.openxmlformats.org/officeDocument/2006/relationships/slide" Target="slide20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2.xml"/><Relationship Id="rId4" Type="http://schemas.openxmlformats.org/officeDocument/2006/relationships/slide" Target="slide15.xml"/><Relationship Id="rId5" Type="http://schemas.openxmlformats.org/officeDocument/2006/relationships/slide" Target="slide39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23.xml"/><Relationship Id="rId7" Type="http://schemas.openxmlformats.org/officeDocument/2006/relationships/slide" Target="slide35.xml"/><Relationship Id="rId8" Type="http://schemas.openxmlformats.org/officeDocument/2006/relationships/slide" Target="slide27.xml"/><Relationship Id="rId9" Type="http://schemas.openxmlformats.org/officeDocument/2006/relationships/slide" Target="slide24.xml"/><Relationship Id="rId10" Type="http://schemas.openxmlformats.org/officeDocument/2006/relationships/slide" Target="slide36.xml"/><Relationship Id="rId11" Type="http://schemas.openxmlformats.org/officeDocument/2006/relationships/slide" Target="slide28.xml"/><Relationship Id="rId12" Type="http://schemas.openxmlformats.org/officeDocument/2006/relationships/slide" Target="slide25.xml"/><Relationship Id="rId13" Type="http://schemas.openxmlformats.org/officeDocument/2006/relationships/slide" Target="slide37.xml"/><Relationship Id="rId14" Type="http://schemas.openxmlformats.org/officeDocument/2006/relationships/slide" Target="slide29.xml"/><Relationship Id="rId15" Type="http://schemas.openxmlformats.org/officeDocument/2006/relationships/slide" Target="slide26.xml"/><Relationship Id="rId16" Type="http://schemas.openxmlformats.org/officeDocument/2006/relationships/slide" Target="slide38.xml"/><Relationship Id="rId17" Type="http://schemas.openxmlformats.org/officeDocument/2006/relationships/slide" Target="slide30.xm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9.xml"/><Relationship Id="rId5" Type="http://schemas.openxmlformats.org/officeDocument/2006/relationships/image" Target="../media/image5.jpeg"/><Relationship Id="rId6" Type="http://schemas.openxmlformats.org/officeDocument/2006/relationships/slide" Target="slide9.xm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2362320"/>
            <a:ext cx="52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С тех пор, как существует мирозданье,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Такого нет, кто б ни нуждался в знанье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Какой мы не возьмем язык и век,-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Всегда стремился к знанью 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652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.  Самый легкий г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д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з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880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9.  Что общего между ракетой и кальмар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охожи внеш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ижутся, используя реактивный принцип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овах есть сочетание букв «ра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828800"/>
            <a:ext cx="769608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0. Найдите лишнее слово в выражении: « Сумма двух острых углов в прямоугольном треугольнике равна 90 градус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стрых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Двух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ямоугольно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19810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1. Драйв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 понятия водитель автомобиля с английского язы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ереводчик программы на язык, “понятный” компьюте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 для обслуживания периферийного устрой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981080"/>
            <a:ext cx="769644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2.  Реакция взаимодействия прост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6201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редметный калейдоск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60948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60948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5181480" y="25909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6" action="ppaction://hlinksldjump"/>
          </p:cNvPr>
          <p:cNvSpPr/>
          <p:nvPr/>
        </p:nvSpPr>
        <p:spPr>
          <a:xfrm>
            <a:off x="5257800" y="388620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5257800" y="5105520"/>
            <a:ext cx="327672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2666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2666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Ге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39625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51814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Т и системы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6324480"/>
            <a:ext cx="1371600" cy="38124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7658" h="21600">
                <a:moveTo>
                  <a:pt x="0" y="0"/>
                </a:moveTo>
                <a:lnTo>
                  <a:pt x="77658" y="0"/>
                </a:lnTo>
                <a:lnTo>
                  <a:pt x="77658" y="21600"/>
                </a:lnTo>
                <a:lnTo>
                  <a:pt x="0" y="21600"/>
                </a:lnTo>
                <a:close/>
              </a:path>
              <a:path fill="lightenLess" w="77658" h="21600">
                <a:moveTo>
                  <a:pt x="0" y="0"/>
                </a:moveTo>
                <a:lnTo>
                  <a:pt x="77658" y="0"/>
                </a:lnTo>
                <a:lnTo>
                  <a:pt x="76258" y="1400"/>
                </a:lnTo>
                <a:lnTo>
                  <a:pt x="1400" y="1400"/>
                </a:lnTo>
                <a:close/>
              </a:path>
              <a:path fill="darken" w="77658" h="21600">
                <a:moveTo>
                  <a:pt x="77658" y="0"/>
                </a:moveTo>
                <a:lnTo>
                  <a:pt x="77658" y="21600"/>
                </a:lnTo>
                <a:lnTo>
                  <a:pt x="76258" y="20200"/>
                </a:lnTo>
                <a:lnTo>
                  <a:pt x="76258" y="1400"/>
                </a:lnTo>
                <a:close/>
              </a:path>
              <a:path fill="darkenLess" w="77658" h="21600">
                <a:moveTo>
                  <a:pt x="77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258" y="20200"/>
                </a:lnTo>
                <a:close/>
              </a:path>
              <a:path fill="lighten" w="77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658" h="21600">
                <a:moveTo>
                  <a:pt x="31823" y="10800"/>
                </a:moveTo>
                <a:lnTo>
                  <a:pt x="45836" y="3794"/>
                </a:lnTo>
                <a:lnTo>
                  <a:pt x="458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Алгеб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75248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График прямой пропорцион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лата за кре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( а+в+с )2  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Сколько получится десятков, если два десятка умножить на два десят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Какое натуральное число не является ни простым , ни состав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В какой четверти находится угол в 371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Как называется равенство двух частны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Как изменится дробь, если числитель ее увеличить на знаменател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Половина – треть числа. Какое это числ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Синус какого угла равен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905120" y="457200"/>
            <a:ext cx="5257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Геомет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75248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Высоты данного треугольника не пересекаются.  Какой это тре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Форма футбольного мяч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Луч, который делит угол попо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Свойство, требующее доказательст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Какой современный термин соответствует названию фигуры «косое поле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Какое наибольшее число внешних тупых углов возможно в треуголь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Какой термин происходит от сочетания двух греческих слов «через» и «угол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Можно ли вписать окружность в прямоугольни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Этот математический термин в переводе с греческого означает «струна». Что э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. На какую сторону падает меньшая высота треугольни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8001000" y="6324480"/>
            <a:ext cx="914400" cy="38124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1779" h="21600">
                <a:moveTo>
                  <a:pt x="0" y="0"/>
                </a:moveTo>
                <a:lnTo>
                  <a:pt x="51779" y="0"/>
                </a:lnTo>
                <a:lnTo>
                  <a:pt x="51779" y="21600"/>
                </a:lnTo>
                <a:lnTo>
                  <a:pt x="0" y="21600"/>
                </a:lnTo>
                <a:close/>
              </a:path>
              <a:path fill="lightenLess" w="51779" h="21600">
                <a:moveTo>
                  <a:pt x="0" y="0"/>
                </a:moveTo>
                <a:lnTo>
                  <a:pt x="51779" y="0"/>
                </a:lnTo>
                <a:lnTo>
                  <a:pt x="50379" y="1400"/>
                </a:lnTo>
                <a:lnTo>
                  <a:pt x="1400" y="1400"/>
                </a:lnTo>
                <a:close/>
              </a:path>
              <a:path fill="darken" w="51779" h="21600">
                <a:moveTo>
                  <a:pt x="51779" y="0"/>
                </a:moveTo>
                <a:lnTo>
                  <a:pt x="51779" y="21600"/>
                </a:lnTo>
                <a:lnTo>
                  <a:pt x="50379" y="20200"/>
                </a:lnTo>
                <a:lnTo>
                  <a:pt x="50379" y="1400"/>
                </a:lnTo>
                <a:close/>
              </a:path>
              <a:path fill="darkenLess" w="51779" h="21600">
                <a:moveTo>
                  <a:pt x="5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79" y="20200"/>
                </a:lnTo>
                <a:close/>
              </a:path>
              <a:path fill="lighten" w="5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79" h="21600">
                <a:moveTo>
                  <a:pt x="18883" y="10800"/>
                </a:moveTo>
                <a:lnTo>
                  <a:pt x="32896" y="3794"/>
                </a:lnTo>
                <a:lnTo>
                  <a:pt x="3289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Х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9250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а окс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акция нейтр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фамилии какого ученого девять букв, из них четыре «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зовите женщину – химика, лауреата Нобелевской пре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то из ученых разработал теорию электролитической ди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Щелочным металлом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ества ускоряющие химическую реакцию называю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сид углерода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 это ядовитый газ, которы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ым способом получения алюминия являе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идраргерум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7696080" y="6324480"/>
            <a:ext cx="1143000" cy="38124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4718" h="21600">
                <a:moveTo>
                  <a:pt x="0" y="0"/>
                </a:moveTo>
                <a:lnTo>
                  <a:pt x="64718" y="0"/>
                </a:lnTo>
                <a:lnTo>
                  <a:pt x="64718" y="21600"/>
                </a:lnTo>
                <a:lnTo>
                  <a:pt x="0" y="21600"/>
                </a:lnTo>
                <a:close/>
              </a:path>
              <a:path fill="lightenLess" w="64718" h="21600">
                <a:moveTo>
                  <a:pt x="0" y="0"/>
                </a:moveTo>
                <a:lnTo>
                  <a:pt x="64718" y="0"/>
                </a:lnTo>
                <a:lnTo>
                  <a:pt x="63318" y="1400"/>
                </a:lnTo>
                <a:lnTo>
                  <a:pt x="1400" y="1400"/>
                </a:lnTo>
                <a:close/>
              </a:path>
              <a:path fill="darken" w="64718" h="21600">
                <a:moveTo>
                  <a:pt x="64718" y="0"/>
                </a:moveTo>
                <a:lnTo>
                  <a:pt x="64718" y="21600"/>
                </a:lnTo>
                <a:lnTo>
                  <a:pt x="63318" y="20200"/>
                </a:lnTo>
                <a:lnTo>
                  <a:pt x="63318" y="1400"/>
                </a:lnTo>
                <a:close/>
              </a:path>
              <a:path fill="darkenLess" w="64718" h="21600">
                <a:moveTo>
                  <a:pt x="64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18" y="20200"/>
                </a:lnTo>
                <a:close/>
              </a:path>
              <a:path fill="lighten" w="64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18" h="21600">
                <a:moveTo>
                  <a:pt x="25353" y="10800"/>
                </a:moveTo>
                <a:lnTo>
                  <a:pt x="39366" y="3794"/>
                </a:lnTo>
                <a:lnTo>
                  <a:pt x="3936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286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14300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ая система счисления используется в ЭВМ: бинарная или двоична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какой плате компьютера размещен процессор: на системной или материнско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сокое разрешение — это подпись начальства на вашем заявлении или способность монитора четко отображать текст и граф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 это за романтическое место в компьютере, где может причалить усталое и потрепанное бурями периферийное устройств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ой компьютерный термин английского происхождения при дословном переводе означает междумордие”?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икламен — это программист мужского пола, программы которого всегда изобилуют циклами, или же альпийская фиалк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Какие банки создают только программист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Какой инфекцией может заразиться компьют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9. Кого считают первой программистк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0. Как зовут создателя компании “Майкрософт” Гейтс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620120" y="6248520"/>
            <a:ext cx="1066680" cy="38088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56" h="21600">
                <a:moveTo>
                  <a:pt x="0" y="0"/>
                </a:moveTo>
                <a:lnTo>
                  <a:pt x="60456" y="0"/>
                </a:lnTo>
                <a:lnTo>
                  <a:pt x="60456" y="21600"/>
                </a:lnTo>
                <a:lnTo>
                  <a:pt x="0" y="21600"/>
                </a:lnTo>
                <a:close/>
              </a:path>
              <a:path fill="lightenLess" w="60456" h="21600">
                <a:moveTo>
                  <a:pt x="0" y="0"/>
                </a:moveTo>
                <a:lnTo>
                  <a:pt x="60456" y="0"/>
                </a:lnTo>
                <a:lnTo>
                  <a:pt x="59056" y="1400"/>
                </a:lnTo>
                <a:lnTo>
                  <a:pt x="1400" y="1400"/>
                </a:lnTo>
                <a:close/>
              </a:path>
              <a:path fill="darken" w="60456" h="21600">
                <a:moveTo>
                  <a:pt x="60456" y="0"/>
                </a:moveTo>
                <a:lnTo>
                  <a:pt x="60456" y="21600"/>
                </a:lnTo>
                <a:lnTo>
                  <a:pt x="59056" y="20200"/>
                </a:lnTo>
                <a:lnTo>
                  <a:pt x="59056" y="1400"/>
                </a:lnTo>
                <a:close/>
              </a:path>
              <a:path fill="darkenLess" w="60456" h="21600">
                <a:moveTo>
                  <a:pt x="604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6" y="20200"/>
                </a:lnTo>
                <a:close/>
              </a:path>
              <a:path fill="lighten" w="604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6" h="21600">
                <a:moveTo>
                  <a:pt x="23221" y="10800"/>
                </a:moveTo>
                <a:lnTo>
                  <a:pt x="37234" y="3794"/>
                </a:lnTo>
                <a:lnTo>
                  <a:pt x="37234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Лидер XXI ве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2133720" y="213372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2133720" y="3886200"/>
            <a:ext cx="647676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1337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8862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4800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20968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2209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ай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3048120"/>
            <a:ext cx="6476760" cy="609480"/>
            <a:chOff x="2133720" y="3048120"/>
            <a:chExt cx="6476760" cy="609480"/>
          </a:xfrm>
        </p:grpSpPr>
        <p:sp>
          <p:nvSpPr>
            <p:cNvPr id="97" name="">
              <a:hlinkClick r:id="rId4" action="ppaction://hlinksldjump"/>
            </p:cNvPr>
            <p:cNvSpPr/>
            <p:nvPr/>
          </p:nvSpPr>
          <p:spPr>
            <a:xfrm>
              <a:off x="2133720" y="304812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8280" y="3048120"/>
              <a:ext cx="609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Предметный калейдоско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362320" y="3886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емная лоша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133720" y="4800600"/>
            <a:ext cx="6476760" cy="1068840"/>
            <a:chOff x="2133720" y="4800600"/>
            <a:chExt cx="6476760" cy="1068840"/>
          </a:xfrm>
        </p:grpSpPr>
        <p:sp>
          <p:nvSpPr>
            <p:cNvPr id="101" name=""/>
            <p:cNvSpPr/>
            <p:nvPr/>
          </p:nvSpPr>
          <p:spPr>
            <a:xfrm>
              <a:off x="2133720" y="4800600"/>
              <a:ext cx="6476760" cy="609480"/>
            </a:xfrm>
            <a:prstGeom prst="roundRect">
              <a:avLst>
                <a:gd name="adj" fmla="val 16667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>
              <a:hlinkClick r:id="rId5" action="ppaction://hlinksldjump"/>
            </p:cNvPr>
            <p:cNvSpPr/>
            <p:nvPr/>
          </p:nvSpPr>
          <p:spPr>
            <a:xfrm>
              <a:off x="2362320" y="4800600"/>
              <a:ext cx="5943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Интеллектуальный сприн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676520" y="228600"/>
            <a:ext cx="5257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Физи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175248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914400"/>
            <a:ext cx="838188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-то раз спросили розу, отчего, чаруя око, ты колючими шипами нас царапаешь жесток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чему воздушный шар днем поднять труднее? Ночью этот стратостат ввысь летит скор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можно объяснить пословицу: «Как с гуся в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красная дама нюхала розы, но расчихалась – закапали слезы! Из-за чего бывают вот такие конфуз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тоящий на полу человек может быстро удвоить давление на пол, не нагружая себя никакими дополнительными груза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да по воде плы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я и не снег, но таю, не птица, а лет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ве сестры качались – правды добивались. А когда добились, то остановил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е мамочка – механика, сестра родная – динамики. Она и физика, и математика. Зовется эта область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го в сундук не спряч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73915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083" h="21600">
                <a:moveTo>
                  <a:pt x="27535" y="10800"/>
                </a:moveTo>
                <a:lnTo>
                  <a:pt x="41548" y="3794"/>
                </a:lnTo>
                <a:lnTo>
                  <a:pt x="4154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80880" y="228600"/>
            <a:ext cx="8229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ычислительная техника и системы счис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066680"/>
            <a:ext cx="876312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счетная доска у древних римлян и греков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вычислительной техникой пользовались счетоводы в середине 20 ве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й прибор использовали школьники для упрощения вычислений до изобретения калькулят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то изобрел первую счетную машин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 называлась первая а мире ЭВ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ое число служит основанием основной системы счисления употребляемой во всем ми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аким словом обозначался миллион в Древней Рус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непозиционных системах счисления положение знака в записи числа не играет роли, и хотя, эти системы считаются неудобными, мы до сих пор используем в записи эти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менно эта система счисления оказалась самой удобной для выполнения арифметических операций на ЭВ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древнем Вавилоне использовали свою систему счисления. Ее следы сохранились до наших дней, и мы ежедневно используем ее. Гд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8077320" y="624852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10800"/>
                </a:moveTo>
                <a:lnTo>
                  <a:pt x="32920" y="3794"/>
                </a:lnTo>
                <a:lnTo>
                  <a:pt x="32920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04920" y="380880"/>
            <a:ext cx="8305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Темная лошад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8288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666880"/>
            <a:ext cx="3809880" cy="60984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6576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4572000"/>
            <a:ext cx="3809880" cy="6094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 лабиринтах мы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27432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ете ли В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изнь замечательны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нета «Железя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3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190512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6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7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8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9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0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1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08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2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4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5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36576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6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4572000"/>
            <a:ext cx="685800" cy="510120"/>
          </a:xfrm>
          <a:prstGeom prst="rect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Verdana"/>
                <a:hlinkClick r:id="rId17" action="ppaction://hlinksldjump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4380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10800"/>
                </a:moveTo>
                <a:lnTo>
                  <a:pt x="41558" y="3794"/>
                </a:lnTo>
                <a:lnTo>
                  <a:pt x="41558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ервый слог в названии реки в Сибири и первая буква названия полупроводникового прибора составляют название твердого состояния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ие известные вам два газа не ядовиты, однако от них гибнут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25146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ая кислота всегда находится в желудке здорового человека, а при недостатке этой кислоты ее употребляют как лекарст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едавно во Флориде построен дом из алюминия. Алюминий был получен при переработке вторичного сырья. Всего на сооружение дома потребовалось более полмиллиарда единиц этого вторичного сырья. Что это за сырь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00200" y="457200"/>
            <a:ext cx="594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Знаете ли Вы?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13372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В Англии давно была написана программа, предназначенная для использования в офисах крупных компаний. По принципу действия она напоминает антивирусы, но используется для другой ц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Для какой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43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После дефрагментации жесткого магнитного диска объем свободного места на нем станет больше, меньше или не измен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243828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программы называют троянскими конями, или троян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во происхождение этого названи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1828800"/>
            <a:ext cx="762012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Где сила тяжести одного и того же тела больше: на полюсе или на экват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полюс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 эква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де один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Планета "Железяка"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36232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ое отношение к компьютерам имеют термины: бриллиант, диамант, перл, нонпарель, миньон, петит, боргес, корпус, цицеро, миттель, терци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362320"/>
            <a:ext cx="79250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На могиле этого великого математика был установлен памятник с изображением шара и описанного около него цилиндра. Спустя почти 200 лет по этому чертежу нашли его моги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то этот математик? ( можно назвать любые три 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23623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Какое наибольшее число воскресений может быть в г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971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Что больше: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л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14400" y="457200"/>
            <a:ext cx="7467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В лабиринтах мысли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251460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жасный вирус пожирает память компьютера. За первую секунду он управился с половиной памяти, за вторую с одной третьей оставшейся части, а за третью секунду – с четвертью того, что еще сохранилось, за четвертую – с одной пятой остатка. И тут его настиг Антивирус. Какая часть памяти уцеле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1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26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510552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 изобрел телескоп; для изучения одного явления взбирался на Пизанскую башню; ввел понятие «инерция», «ИСО»; фамилия и имя очень похож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2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40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5181480"/>
            <a:ext cx="87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от русский ученый создал на основе механики Ньютона теорию космических летательных аппар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54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733920" y="380988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3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4800600"/>
            <a:ext cx="8534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зик и математик, открывший и исследовавший ряд важных свойств жидкости и газа, доказавший существование атмосферного давления. Он открыл закон о том, что давление производимое на жидкость или газ, передается без изменений в каждую точку жидкости или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467480" y="62485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04920" y="1752480"/>
            <a:ext cx="8458200" cy="3117240"/>
            <a:chOff x="304920" y="1752480"/>
            <a:chExt cx="8458200" cy="3117240"/>
          </a:xfrm>
        </p:grpSpPr>
        <p:sp>
          <p:nvSpPr>
            <p:cNvPr id="269" name=""/>
            <p:cNvSpPr/>
            <p:nvPr/>
          </p:nvSpPr>
          <p:spPr>
            <a:xfrm>
              <a:off x="609480" y="1828800"/>
              <a:ext cx="8077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304920" y="1752480"/>
              <a:ext cx="129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/>
            <a:stretch/>
          </p:blipFill>
          <p:spPr>
            <a:xfrm>
              <a:off x="1981080" y="1752480"/>
              <a:ext cx="1495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09880" y="1752480"/>
              <a:ext cx="1565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5638680" y="1752480"/>
              <a:ext cx="14702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8"/>
            <a:srcRect l="23634" t="12500" r="14829" b="12500"/>
            <a:stretch/>
          </p:blipFill>
          <p:spPr>
            <a:xfrm>
              <a:off x="7391520" y="1828800"/>
              <a:ext cx="13636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38680" y="380988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еорг 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91520" y="380988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лез Паска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28800" y="3809880"/>
              <a:ext cx="16765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К. Э. Циолков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733920" y="3733920"/>
            <a:ext cx="1676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809880"/>
            <a:ext cx="1371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Жизнь замечательных людей (40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648320"/>
            <a:ext cx="8534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етстве он ходил с отцом в дальние плавания – к Новой Земле и Шпицбергену. Учился в Германии, был рекрутом гвардии короля Фридриха Вильгельм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но сумел сбежать и вернулся на родину. В 1748 году он сочинил поздравительную оду императрице  Елизавете. В 1749 году создал химическую лабораторию. Изготовлял мозаичные картины из цветного стекла, которое сам производил. Его считают основоположником атомно-молекуля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я, одним из авторов закона сохранения массы и 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67480" y="6172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66" h="21600">
                <a:moveTo>
                  <a:pt x="25377" y="10800"/>
                </a:moveTo>
                <a:lnTo>
                  <a:pt x="39389" y="3794"/>
                </a:lnTo>
                <a:lnTo>
                  <a:pt x="39389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0880" y="457200"/>
            <a:ext cx="8382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Интеллектуальный сприн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3095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828800"/>
            <a:ext cx="7620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2. Что на латыни обозначает слово «вектор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лзущ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стремящий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Вез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Винчестер –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устройство внешней памя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город в Великобрита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назван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81080"/>
            <a:ext cx="769644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4. Валентность алюми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981080"/>
            <a:ext cx="7696440" cy="40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5.  Когда мяч находится в состоянии невесомости: при вертикальном подъеме или при пад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пад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и вертикальном подъ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 обоих случа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3822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6. Этот греческий купец, измерив тень от пирамиды и тень от шеста и , применив свои теоремы о подобии, вычислил высоту пирамиды. Его им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Евкли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Архиме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Фалес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828800" y="45720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b2c1"/>
                </a:solidFill>
                <a:latin typeface="Arial"/>
              </a:rPr>
              <a:t>Бай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b2c1"/>
              </a:solid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752480"/>
            <a:ext cx="769644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. Вирус –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шибка в программ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возбудитель инфекционного заболе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программа, обладающая способностью к самовоспроизве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26T08:55:42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